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28E-38DF-41BF-94C2-C2D0D738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B6-C1F8-4C3C-8535-DE8FCB0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6BFD-DEC0-453C-8089-0F4C30F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A3AFB-DE79-4783-8B46-8BEFDD6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2330B-C6B8-4687-876C-388FE16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9C6E4-12E9-41E6-A11F-0549F70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03CBA-385E-4A21-A4AA-4D0F4AF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DBC39-BDC6-460E-9990-2052C5A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C1A3-F58F-45F8-9929-47968DE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550DD-64E0-48FD-B882-29F4F64D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51B0E-B591-4D06-9BCA-E2114F37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0F381-B4D8-498D-84EC-96B4F1F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D18-636F-4513-B3AC-45EF083C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36AAE-F358-48D5-B9C3-36E39AA4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E7A0C-1C5C-4D4A-BB0A-669030E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9A6E0-2A99-452C-A977-A428D365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FD250-D4A6-468D-82AA-3232F3F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EDD26-E552-4914-956B-DC7C962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2EF9A-CBC3-4929-B5BA-6AE3AF7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517A5-7CAE-4DA4-B29C-ACCD92CF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C307E-79A9-47BE-8FBB-AE1A2CE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0998A-D067-4330-9EBA-315D7603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B01E4-FCBD-4ACE-8606-34908909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1C3-F800-4627-99C0-788D27D3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93E70-4A21-4531-BD70-53571158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35E01-F05B-4B76-8FAA-C440542C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68D9-5218-46BA-9B12-384A8E6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58DDF-6711-43D3-AEFF-7A5D7B9E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183A2-7B7A-4B1E-8042-41A051D6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FE1F-D70C-499E-9FF9-0B938743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FEFD-371A-4608-A983-8B3D07C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1107C-F909-43F0-80A9-758FABC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0E6C-1FB4-4A75-8806-691ACDB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51D2-E85A-4EA9-9738-3D050C1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709-3A3F-49DA-B7AA-AAF246CF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9EBB-9DAA-4029-92B8-2D2D79A7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64F9E-E450-4D6E-8722-0C48CB54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BEDC2-AE90-4BCD-86E1-B9D80DB1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B9C2F-1669-461D-9556-E95FD5B3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4C21F-46F0-4AA9-B96A-CEFFF33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9DA9D-4147-4B68-AC87-DCC6D4F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12837-9EF2-427C-85A3-923A05C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AFEAF-F1FA-44D1-8BD5-7125969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DBD49-48B7-4619-9465-81A38E0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D64F-7ADD-4677-997A-4362FCC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E4EE-280B-4CFD-A038-A4A7381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5A81C-9E37-42EA-814B-7B08D8A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11192-0C46-4608-82CF-8BB7C9D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4C0D0-3F51-48AA-A0E3-AE6009A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03778-A184-44BF-BFBB-66F8F453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8974E-B02F-4D02-BB15-5A4AEE8B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527E2-9DB2-4A51-8EDA-779B539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CB658-5F26-4BFB-9234-462CB181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744B1-F7B3-4E9F-B7C6-A9C27A5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E26BB-4B9F-4256-B28D-BC1819D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63B13-933B-45A3-BD6B-45A8F7C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E38D-D13F-49F1-A143-45D5B53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311B2-E8FF-458E-9540-6BB9F02D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6E58-CADC-4D1D-8987-F65BF50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C9824-7570-4B6A-A753-7DB8D8F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B536F-8CE6-483A-AB1A-C78B6CC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DBD65-4A33-4EE1-AD81-BA059ECF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75338-258A-4764-985F-6968D40E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EBBCE-92D2-4607-8617-89081F88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53E0D-CD24-4A88-A0E1-C9F01F81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0D95A-ADFC-409A-9914-DCC02AAB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7D356-E918-4990-877B-866D2E8F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D942-B01F-411B-AA51-C911576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4BA91-0C97-4898-9EC0-F570040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72221-1226-413C-95B4-79A318C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5C1E0-167E-4F40-9499-C41AF62D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1EA99-07A0-4E9C-8429-8B4827E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E8C0C-405B-4BBF-A815-38129F9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39277-0B6E-4B9F-B588-DA463C5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5F7C4-C68C-4745-BBE0-A1EC7D6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FF34F-8934-4E3B-A766-3836231E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85C55-F4E7-4E48-BD0A-4A3F8A98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811CC-F440-4649-A878-717434D7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304-6D72-45E7-9BF6-24AC1ED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29848-6870-47C4-B21D-58400FE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133E7-2CA7-4CDC-A984-47C0C2C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DDCF9-90B8-4E79-B234-A852457D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BEB18-C58B-44F4-90C4-3B1672ED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DEFA3-F52C-4159-9C3C-74A9A438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2FBE6-CE3D-4F7C-B900-C824925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BE9FA-7449-4719-9CDF-2CA1EAF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AE7C9-AB02-42D8-9A22-11ECFBA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6A02C-8659-4932-AD9D-8EE3AEB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D7A0B-5687-4A55-9682-5EF9ED65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3F2C-9113-449A-BBA9-C429A04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93D57-CEC2-49FB-8993-643DE568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76582-5C67-44F9-992B-0B2D413C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29794-4B2C-42C0-A759-2DE0DF6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F9EEA-2901-49FC-B216-EFE28DE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5F1BE-D386-4143-A08C-14806AC5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59E36-84AC-41A9-BF7E-FA11051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9D3B0-42EF-45E6-9DB0-37B9C4D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A0846-7ED2-488A-8033-9A4654F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B1C58-FA1F-4A89-8736-720606F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26F30-4638-4424-BB7B-9EFD2F3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C819-D8AE-4C33-8461-5E737EA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BA37C-3D4F-4AC4-9ACF-4C2FFD2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C9E08-82D3-41F2-BAB9-F3A4ADFB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D36B1-3AA3-4B20-B16F-0DBC1E5C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3BF29-E2A3-41D8-A803-557F50C3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7A384-F872-4D47-B899-9D49D877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BEC43-B4EA-46BC-807C-C43494D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3C00F-08CD-44F4-A37B-81BB8D1C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87A6B-9B11-4EE9-A70D-E9EEF50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BAAE5-8F1E-4560-99F1-78DD2D3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9428E-FC95-464B-846A-55602BB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525-1E16-4C2C-8D1E-0E65A1F1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2689-3AFA-45E5-8944-2FD57A9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4531B-E277-4F7E-8F12-BA187CF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3E66F-6A7B-4E25-A57E-DB7DAA7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DAFA0-0A91-493D-8E31-D72F83FB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33130-C102-425B-8AAD-238AB427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7836E-AD0C-42F5-B714-764B79BC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46BA6-CBC4-4AAA-8124-596413D6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4E13B-53F1-4FB1-8472-4EF937B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2AA25-0D25-428C-932A-2304F45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D1C08-C071-429D-8A5E-946F498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AE870-06F1-4310-ADF2-753E2FC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0F40-ADE5-4BD6-9EC4-7472C4F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63DB6-20D4-4568-9403-D8146745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A58F5-239B-4149-B87E-E2EAD1B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9A706-589E-4D75-903A-7FA71EC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0CD5B-0CA9-4A0F-91E7-9B0F5E6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4D4AF-5B67-470D-AA5C-0CE450C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C22D7-DD65-4CD1-8C80-486C103C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17FBF-E78C-49B5-8D55-7623141C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0209C-BD30-4472-A97B-E5FEED5A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F3CE0-EA5A-40AC-9BB8-5EC7FB05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4AC4B-A5C2-493D-B644-14015323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4D77-0F53-470D-B5DA-713E654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256F7-ADEC-402B-99F8-B9F6162C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ED77F-F547-4C4B-AC3C-D4F76CA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D6862-41A5-4C02-BE6C-C30A5291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66694-4415-4238-89B1-1BB029B3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A3128-CBC3-4AF7-8395-82817FD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DF5A6-A58F-4695-AB70-E3452B5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BD2C6-047A-43F2-A049-80BFA7F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D5D0A-B0D6-468A-B88B-13D36B4E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2AD4E-CE54-4A45-8132-D501D77E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D859C-415D-48A0-8C2F-7640F005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31C-F6ED-4A64-B5E8-29905BC8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53F26-A871-42E2-8908-F3B9ABC6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8AB74-E8D4-4886-AC50-6410A551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89964-B9C7-43BC-A3F4-E37763A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030C7-DA44-4609-98AF-4E0166F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97850-EB1A-4624-B95D-16EF397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C025A-F51C-4C04-8A89-01577AB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33A08-0B4B-48DF-9E73-D4EF452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58595-373F-44BE-8B5E-CAE875A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1F5B7-6869-40FE-B3F2-FC2AD62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D9898-F8CF-47BD-AC82-2F1D0A25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E43-A0FD-4E37-9A5B-BAB5646D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FD0C6-E13A-4B33-BF40-816E9A50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1FCBF-40C4-4B5C-80F2-FEFEFDA4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E4869-5963-4A23-BAA4-7A27D22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0C019-1504-48C6-807D-ECCBB27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898D7-EBEC-4070-BD82-F008BB5D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6D8031-09D6-41A2-B5BA-A0F2356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3C4A0-B359-4ED2-814A-D78150EE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A7CF3-B881-4E61-9486-25C55A5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FA989-D355-4533-B2CE-0548A9C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2B58B-7662-4BD1-819F-132346D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05A5-1B89-4B39-A01D-01DA4317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0CD86-6916-4B2E-91FE-34080FF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D612E-093C-443A-880B-09568A27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16CCA-A8F1-4F2B-9BE6-BC0EDE30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D25D-8CD0-4B0F-8D4D-DA34C17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EF70-8A97-4AFF-9D0A-0CBF48E8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F96D-7EE4-43E4-AF7D-932F292C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4FD8-A657-4850-BE4F-86FC6128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541-CA2D-4AF1-B3FB-CBC7EC4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C3D1-9309-41C1-9C83-A418AE74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EA93-2376-4800-B69B-9BF7D72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C381-E964-43DC-8564-D8F0B3E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CAEF-B813-4F49-ACE0-76472D0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6C68-0319-4564-A2DC-A619C474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1432-7324-4D07-88E6-36C37C25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9694-798F-4166-AAE6-AB665864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E463-61BB-4B4E-8638-BC7B98F1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3CBB-DD23-41E2-8264-54AF604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1217-715D-418E-A385-943A327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7CE-68EC-4C5A-AE4F-96B50E5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D013-4447-42CB-A570-C730B98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547D-5266-479E-AAF7-8A51428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88D6-C4C7-4FA6-A70F-55E9051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47D9-FEF5-496A-83E1-487DB10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E95A-6113-4F2E-8DC0-7F80B48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16AAB-7800-4533-B699-39E178A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1599-08C4-4593-A3AC-F14A9AFE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6971-BC73-46FD-95EF-FEAD51CA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11F3-999B-49AD-98B2-2BE338C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C551-D612-4256-B4E0-DA149A47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2DE-B332-4379-A915-19364BE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A0050-3786-4419-A985-E373F94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62100-476B-466D-8F75-65BCE2F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AD98-0732-4D9C-8DA1-76785E2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38ED-FF98-420A-A859-1D6CDDA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0040-2864-46B7-872E-2848691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EA7C-58E0-4C06-8886-A9B72B7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121E-13AD-485F-83AF-0004A32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D0BC-73F2-4301-A934-14495CA8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3E1B-7621-42F4-B929-BD19EA16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2211-E8A2-4BBE-B2A4-6B01CC58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9CC-A9C9-4219-9025-E092808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72D0-4814-4C4E-AE28-906FDA1F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AE36-C3C7-4AD9-8E76-FDFE58D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B3D37-AEA4-4C4D-A5E6-49D75BE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7960-71B1-4CAF-B19B-957F87A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DAA7-7A6C-42A8-87B1-5E08FE1F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37F7-8FEF-4330-A3B3-7A286C6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0A69-62E1-4808-B64F-9C2FCAAA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BC77-B947-47E3-A61E-60C12C9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378A-5928-4EE4-9C49-0369D35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E2E8-595A-4AC7-B52B-F90706E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0D5-099E-4E7C-B205-99F404E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4CAE-DA0B-484E-A6C0-8383613F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548A-C430-4CEE-BB58-DC5B4B79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0EF5-5EEE-40A3-AFE2-7B5C1534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C8305-845F-4261-B284-EF487FE9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9819-94C0-4AF1-AAAA-C1BB64A8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C791-27EA-49B1-A710-2B51E05D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25EE-AAE7-462A-87B1-500C3C69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B86A-B2EC-4411-A363-7571D0D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A92B-D360-4C5A-B654-FD75238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627D-7D33-4F62-B590-8298E19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44C-0946-4AB0-BA2D-F3769C3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549C-5B5F-4362-9022-6CC70C4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4DE5-1549-4F0C-A35E-52F957D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B22AC-00FE-4531-9B4F-84AAC49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2CF3-5DBF-4475-A2F7-7DD72A99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3C38-AF94-4EAC-BA44-5E712B52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D164F-563E-4C5B-94AE-D4A5403C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BC0B-9312-467A-B13F-FD93723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AC04C-A4ED-437E-94A7-4994CA9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7D23F-6D3E-414A-9304-7B21BAB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C8967-0568-456D-8027-216408F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DE3-8416-4F2B-B3C3-8025170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91E7-0B60-451A-BFCB-F99EB04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6921-A4D0-4AC0-B173-79403E1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27E2A-AA0B-4E3E-81BF-CFAA969D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F3B43-9CDA-49F8-9C4D-10C51E2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9EA53-2C1F-4D4F-8579-E620E5D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3003-12BB-4066-BBBC-3C142B26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B837-7D7A-4161-AC4B-2A97E6CF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E392-1275-4487-9B1C-233797FD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8CB5-7E76-4D05-B124-D808BEC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E4CF4-A4B4-4E2E-AAEA-FD478F25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7FB8-E87E-414D-8236-D26F7CCE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48B3-8C93-4844-987C-70B5D9073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BE8-2759-469F-A72D-61EA9FB55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6E1-BB3A-4A7C-BE47-5AC8B5F56D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8591-325E-493B-8006-5F006E3A1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13AF-E06E-41D8-B637-FC7B299AF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43B0-12ED-4134-A3AD-1E3221E87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901-3773-4E4C-A929-D30658997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017D-A798-47AE-836C-B4569F679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74FC-C5E7-46FC-962E-5BF41BACC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630A-213B-48C8-8F62-8DC67A507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C25-9945-42F0-9A7E-3DA48BF7C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B9BB-85A1-4E9F-A1C7-4FB40C0CE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1A1-86D8-4D26-991F-09056E28BA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EDBB-BEFD-4CD8-8A59-3A79FFD9E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351-0F9D-4BC9-9A81-9D88FBE0A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BBE-788F-4B81-9B45-31098A9FD8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0398-FB9E-4FC5-A793-0EEE84407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8A4-C57B-4966-9DC4-F1CD2B0B6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7B38-A533-49D1-A7E7-2D4EBB41F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5E6-05CB-43FA-BA01-D1C0CD9ED0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240-ABE1-4E66-BD5A-352797E52A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20C-2628-4288-8D10-95BDECE86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A75-B536-46B6-ACEA-A75C3EB28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CA9-3337-48E7-869D-48C7C0C8D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48D-6F02-4D1A-8896-AE9C7ECAB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E22-D74A-45F0-870F-9FBA7C3F5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7E8C-41EF-4366-A6AF-DACD49079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711-1D2A-41A1-B2D7-D102166ED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B975-8585-4A92-8C20-87CD95084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F7FA-9AC4-4722-931B-E24F18991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0BF-C371-4988-8D7A-80CF9E2A8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C723-2A77-4996-83CA-283A86CB8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A90-8BDA-43D9-8869-B1B95D122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007-5693-4750-8E07-3117F2DF0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C71-B6D2-4939-9141-DCC159353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0E9-DB31-44CF-BE96-1E01689A2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AB8-9B75-439B-BD90-D9AC460FAB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4B1B-F4B4-4CF0-BEBB-26F846ED9A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953-93E7-4F95-A3FF-EA645B8ADB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995640" y="3090960"/>
            <a:ext cx="11527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76280" y="1271520"/>
            <a:ext cx="8191440" cy="43149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1785960" y="1357200"/>
            <a:ext cx="12142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2643120" y="1785960"/>
            <a:ext cx="135756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5761080" y="2254320"/>
            <a:ext cx="12142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903240" y="3171960"/>
            <a:ext cx="107172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4286160" y="3643200"/>
            <a:ext cx="14288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3357720" y="4572000"/>
            <a:ext cx="12142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919080"/>
            <a:ext cx="8286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28760" y="1362240"/>
            <a:ext cx="82864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38120" y="690480"/>
            <a:ext cx="8267760" cy="54770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857160" y="171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85716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457200" y="1357200"/>
            <a:ext cx="8229600" cy="41436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928800" y="1357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857160" y="4143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34360" cy="3638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571680" y="4429080"/>
            <a:ext cx="821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399960" y="1357200"/>
            <a:ext cx="8344080" cy="414360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85716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857160" y="2357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785880" y="3286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785880" y="4214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"/>
          <p:cNvSpPr/>
          <p:nvPr/>
        </p:nvSpPr>
        <p:spPr>
          <a:xfrm>
            <a:off x="785880" y="5143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10520" cy="614376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2714760" y="3714840"/>
            <a:ext cx="1428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3857760" y="4214880"/>
            <a:ext cx="12142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5929200" y="4643280"/>
            <a:ext cx="20718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5143680" y="5572080"/>
            <a:ext cx="157140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6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